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E55-6A2A-420B-921D-D509D626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2F4-62C6-487D-B7B7-D68F2E87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456-A7F4-431B-9E2D-F9D5F821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39E-3722-4AE0-B48D-76A3C0DF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3A91-19DC-4EF3-A0E1-ACCDEB90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EFBC-FFB3-431F-B4A1-DC68C68C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F630-83CE-4736-ACFC-34203CCF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EC88-F10C-42F4-8791-B8ADCDE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603-314E-4D87-9D66-C0189C7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7232-CC1C-4B9E-B9C7-460E911D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73F2-9D47-4985-A656-CF3CC050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E39-4621-4488-8C4C-0B9288A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7AF-6385-48EA-878F-A55911A2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3138-92CB-499A-9025-CC54669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E1F1-5051-48FC-A71B-2A50B877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ED8-738E-4E10-90F3-84E7798D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8AB6-FAA5-462C-88C1-8E8F7B3A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D6D-80F4-44B2-83ED-4DE406A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832-8BAB-4C44-8FA7-6B517593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38A-5D6E-4F2F-9040-4795D5AD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334-19BC-45F5-82AE-F88D6F65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C23-1491-48BB-83A0-C55D126A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B66-A9B7-48EC-B9CA-11A0149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38C-85B5-4A84-A28E-531A3B3F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88F3-5678-41B5-86FB-776A2D1C5CC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9C04-B2F6-48E5-8CF9-AB90583977B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455-E111-4798-8A62-56F0E88FEC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000" spc="-1" strike="noStrike">
                <a:solidFill>
                  <a:srgbClr val="cc6600"/>
                </a:solidFill>
                <a:latin typeface="Arial Black"/>
              </a:rPr>
              <a:t>DECALOGO DEL SUSTRATO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0" lang="es-ES_tradnl" sz="2800" spc="-1" strike="noStrike">
                <a:solidFill>
                  <a:srgbClr val="0000ff"/>
                </a:solidFill>
                <a:latin typeface="Arial Black"/>
              </a:rPr>
              <a:t>Debe retener hume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2. </a:t>
            </a:r>
            <a:r>
              <a:rPr b="0" lang="es-ES_tradnl" sz="2800" spc="-1" strike="noStrike">
                <a:solidFill>
                  <a:srgbClr val="ff9900"/>
                </a:solidFill>
                <a:latin typeface="Arial Black"/>
              </a:rPr>
              <a:t>Debe permitir una buena aire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0" lang="es-ES_tradnl" sz="2800" spc="-1" strike="noStrike">
                <a:solidFill>
                  <a:srgbClr val="969696"/>
                </a:solidFill>
                <a:latin typeface="Arial Black"/>
              </a:rPr>
              <a:t>Debe tener buena estabilidad física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4. 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Debe ser inerte químicame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0" lang="es-ES_tradnl" sz="2800" spc="-1" strike="noStrike">
                <a:solidFill>
                  <a:srgbClr val="336600"/>
                </a:solidFill>
                <a:latin typeface="Arial Black"/>
              </a:rPr>
              <a:t>Debe ser inerte biológicame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6. </a:t>
            </a:r>
            <a:r>
              <a:rPr b="0" lang="es-ES_tradnl" sz="2800" spc="-1" strike="noStrike">
                <a:solidFill>
                  <a:srgbClr val="6666ff"/>
                </a:solidFill>
                <a:latin typeface="Arial Black"/>
              </a:rPr>
              <a:t>Debe tener buen drenaj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7. </a:t>
            </a:r>
            <a:r>
              <a:rPr b="0" lang="es-ES_tradnl" sz="2800" spc="-1" strike="noStrike">
                <a:solidFill>
                  <a:srgbClr val="ff7c80"/>
                </a:solidFill>
                <a:latin typeface="Arial Black"/>
              </a:rPr>
              <a:t>Debe tener buena capilar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8. </a:t>
            </a:r>
            <a:r>
              <a:rPr b="0" lang="es-ES_tradnl" sz="2800" spc="-1" strike="noStrike">
                <a:solidFill>
                  <a:srgbClr val="01b0ff"/>
                </a:solidFill>
                <a:latin typeface="Arial Black"/>
              </a:rPr>
              <a:t>Debe ser livia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9. </a:t>
            </a:r>
            <a:r>
              <a:rPr b="0" lang="es-ES_tradnl" sz="2800" spc="-1" strike="noStrike">
                <a:solidFill>
                  <a:srgbClr val="cc0000"/>
                </a:solidFill>
                <a:latin typeface="Arial Black"/>
              </a:rPr>
              <a:t>Debe ser de bajo cost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10.</a:t>
            </a:r>
            <a:r>
              <a:rPr b="0" lang="es-ES_tradnl" sz="2800" spc="-1" strike="noStrike">
                <a:solidFill>
                  <a:srgbClr val="9966ff"/>
                </a:solidFill>
                <a:latin typeface="Arial Black"/>
              </a:rPr>
              <a:t>Debe estar disponibl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5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6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C3ED-4519-4B13-A48F-D0BB212B5F3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54380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029200" cy="4407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ff"/>
                </a:solidFill>
                <a:latin typeface="Arial Black"/>
              </a:rPr>
              <a:t>MACRONUTRIEN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6600"/>
                </a:solidFill>
                <a:uFillTx/>
                <a:latin typeface="Arial Black"/>
              </a:rPr>
              <a:t>Grandes o primarios</a:t>
            </a:r>
            <a:r>
              <a:rPr b="0" lang="es-ES_tradnl" sz="2400" spc="-1" strike="noStrike">
                <a:solidFill>
                  <a:srgbClr val="cc66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Nitrógeno           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Fósforo               P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Potasio               K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9900"/>
                </a:solidFill>
                <a:uFillTx/>
                <a:latin typeface="Arial Black"/>
              </a:rPr>
              <a:t>Intermedios o secundarios</a:t>
            </a: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Azufre                 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Calcio                 C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Magnesio            M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0" y="1752480"/>
            <a:ext cx="4572000" cy="440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 Black"/>
              </a:rPr>
              <a:t>MICRONUTRIEN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808080"/>
                </a:solidFill>
                <a:uFillTx/>
                <a:latin typeface="Arial Black"/>
              </a:rPr>
              <a:t>Menores o terciarios</a:t>
            </a:r>
            <a:r>
              <a:rPr b="0" lang="es-ES_tradnl" sz="2400" spc="-1" strike="noStrike">
                <a:solidFill>
                  <a:srgbClr val="80808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Hierro             F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Manganeso    M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Cobre             Cu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Zinc                Z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Boro                B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Molibdeno       Mb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Cloro               C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2B81-A098-49E4-9F6B-19D65B2E25D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54380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60" name="Object 3"/>
          <p:cNvGraphicFramePr/>
          <p:nvPr/>
        </p:nvGraphicFramePr>
        <p:xfrm>
          <a:off x="1523880" y="1600200"/>
          <a:ext cx="693432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934320" cy="4702320"/>
                  </a:xfrm>
                  <a:prstGeom prst="rect">
                    <a:avLst/>
                  </a:prstGeom>
                  <a:ln w="381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4F4C-545F-4589-9652-48E006E536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65" name="Object 3"/>
          <p:cNvGraphicFramePr/>
          <p:nvPr/>
        </p:nvGraphicFramePr>
        <p:xfrm>
          <a:off x="1523880" y="1336680"/>
          <a:ext cx="716292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36680"/>
                    <a:ext cx="7162920" cy="4957920"/>
                  </a:xfrm>
                  <a:prstGeom prst="rect">
                    <a:avLst/>
                  </a:prstGeom>
                  <a:ln w="93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AB9B-DF69-4034-9158-0969CA7CFE8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46748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70" name="Object 4"/>
          <p:cNvGraphicFramePr/>
          <p:nvPr/>
        </p:nvGraphicFramePr>
        <p:xfrm>
          <a:off x="1523880" y="1411200"/>
          <a:ext cx="70106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11200"/>
                    <a:ext cx="7010640" cy="4757760"/>
                  </a:xfrm>
                  <a:prstGeom prst="rect">
                    <a:avLst/>
                  </a:prstGeom>
                  <a:ln w="381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CFC3-14D1-4104-B521-D0F9EFC39B7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1371600" y="1587600"/>
          <a:ext cx="6858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87600"/>
                    <a:ext cx="6858000" cy="4572000"/>
                  </a:xfrm>
                  <a:prstGeom prst="rect">
                    <a:avLst/>
                  </a:prstGeom>
                  <a:ln w="381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813E-EE1B-4E72-89F3-E309CCB081E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SINTOMATOLOGI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Localiz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íntomas limitados a un sector de la hoja o de la plant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ff"/>
                </a:solidFill>
                <a:latin typeface="Arial Black"/>
              </a:rPr>
              <a:t>Generaliz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íntomas esparcidos por toda la hoja o por toda la plant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Black"/>
              </a:rPr>
              <a:t>Secado o quemado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ecrosis, acartonado, seco,  tostad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1932"/>
                </a:solidFill>
                <a:latin typeface="Arial Black"/>
              </a:rPr>
              <a:t>Marginal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lorosis o necrosis en los márgenes de la hoj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61DF-8C30-4BBF-8C58-5053CCBFE28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SINTOMATOLOGI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33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Black"/>
              </a:rPr>
              <a:t>Clorosis intervenal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marillamiento entre las venas de las hoj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Mote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Manchas claras y oscuras, asociado a viru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Arial Black"/>
              </a:rPr>
              <a:t>Manchas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reas descoloridas con bordes definido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ff"/>
                </a:solidFill>
                <a:latin typeface="Arial Black"/>
              </a:rPr>
              <a:t>Color del envez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oloración particular en la parte inferior de la hoja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Arial Black"/>
              </a:rPr>
              <a:t>Enrosc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bordes de la hoja o las puntas se enrrollan hacia arriba  o hacia abaj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139C-EA67-480E-A6B2-D3EB64FC4D8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SINTOMATOLOGI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Arial Black"/>
              </a:rPr>
              <a:t>Reticul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nervaduras permanecen verdes  y el tejido entre ellas amarill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ejido vidrios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uando las hojas, peciolos y tallos les falta flexibilidad y se quiebran al tocar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Muerte descendente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uando las hojas terminales o del punto de crecimiento se secan y se mueren rápidamen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1932"/>
                </a:solidFill>
                <a:latin typeface="Arial Black"/>
              </a:rPr>
              <a:t>Achaparr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Plantas más pequeñas que lo norm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ff"/>
                </a:solidFill>
                <a:latin typeface="Arial Black"/>
              </a:rPr>
              <a:t>Ahil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recimiento de tallo y peciolo muy delgados y débiles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8F1C-8518-44D4-B9CD-05C534BFE0B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23920" y="0"/>
            <a:ext cx="7772400" cy="57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NUTRICION MINER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92" name="Object 3"/>
          <p:cNvGraphicFramePr/>
          <p:nvPr/>
        </p:nvGraphicFramePr>
        <p:xfrm>
          <a:off x="0" y="495360"/>
          <a:ext cx="91440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751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4" name="Line 7"/>
          <p:cNvSpPr/>
          <p:nvPr/>
        </p:nvSpPr>
        <p:spPr>
          <a:xfrm>
            <a:off x="0" y="2095560"/>
            <a:ext cx="91440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CCF3-47A7-48FD-9226-0EC641C1C7B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15328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 NITROG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2044800"/>
            <a:ext cx="91440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s absorbido en forma de NO</a:t>
            </a:r>
            <a:r>
              <a:rPr b="0" lang="es-ES" sz="2800" spc="-1" strike="noStrike" baseline="-25000">
                <a:solidFill>
                  <a:srgbClr val="ff6699"/>
                </a:solidFill>
                <a:latin typeface="Arial Black"/>
              </a:rPr>
              <a:t>3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 y NH</a:t>
            </a:r>
            <a:r>
              <a:rPr b="0" lang="es-ES" sz="2800" spc="-1" strike="noStrike" baseline="-25000">
                <a:solidFill>
                  <a:srgbClr val="ff6699"/>
                </a:solidFill>
                <a:latin typeface="Arial Black"/>
              </a:rPr>
              <a:t>4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Da el color verde intenso a las plant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Fomenta el rápido crecimiento 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Aumenta la producción de hoj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Mejora  la calidad de las hortaliz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Aumenta el contenido de proteínas  en los cultivos   de  alimentos y forraje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E83-45D2-4E2B-B63B-401F9909DF7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720" y="-360"/>
            <a:ext cx="916308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SUSTRAT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743040"/>
            <a:ext cx="9144000" cy="5581440"/>
          </a:xfrm>
          <a:prstGeom prst="rect">
            <a:avLst/>
          </a:prstGeom>
          <a:solidFill>
            <a:srgbClr val="ccff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2236680" y="1471680"/>
            <a:ext cx="4635720" cy="4660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554360" y="3813120"/>
            <a:ext cx="2200320" cy="684360"/>
          </a:xfrm>
          <a:prstGeom prst="line">
            <a:avLst/>
          </a:prstGeom>
          <a:ln w="572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2378160" y="3824280"/>
            <a:ext cx="2162160" cy="851040"/>
          </a:xfrm>
          <a:prstGeom prst="line">
            <a:avLst/>
          </a:prstGeom>
          <a:ln w="572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 flipH="1">
            <a:off x="4516200" y="1469880"/>
            <a:ext cx="11160" cy="2345040"/>
          </a:xfrm>
          <a:prstGeom prst="line">
            <a:avLst/>
          </a:prstGeom>
          <a:ln w="572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2286000" y="1366920"/>
            <a:ext cx="2209680" cy="3233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Freeform 15"/>
          <p:cNvSpPr/>
          <p:nvPr/>
        </p:nvSpPr>
        <p:spPr>
          <a:xfrm>
            <a:off x="4543560" y="1500120"/>
            <a:ext cx="2295360" cy="29386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610320" y="49975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IQUIDO0 - 4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787680" y="190188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Verdana"/>
              </a:rPr>
              <a:t>GASE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Verdana"/>
              </a:rPr>
              <a:t>0 - 3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6773040" y="183348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Verdana"/>
              </a:rPr>
              <a:t>SOLI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Verdana"/>
              </a:rPr>
              <a:t>0 - 3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-4680" y="509760"/>
            <a:ext cx="914076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Volúmenes relativos de material: sólido,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y gaseoso en un buen sust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0B4-1CCA-48D3-A9E4-7E1006B2185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 NITROG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62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Deficiencia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Aspecto enfermizo de la plant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Color verde amarillento  debido a la pérdida de clorofil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Desarrollo lento y escas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Amarillamiento  inicial y secado posterior de las hojas  de la base de la planta  que continua hacia arriba , si la deficiencia  es muy severa  y no se corrige , las hojas más jóvenes permanecen verde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8222-0247-4B4C-9FC9-079C634D794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 NITROG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930320"/>
            <a:ext cx="91440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   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Cuando se suministra en cantidades desbalanceadas en relación con los demás elementos , la planta produce  </a:t>
            </a:r>
            <a:r>
              <a:rPr b="0" lang="es-ES" sz="2800" spc="-1" strike="noStrike">
                <a:solidFill>
                  <a:srgbClr val="006600"/>
                </a:solidFill>
                <a:latin typeface="Arial Black"/>
              </a:rPr>
              <a:t>mucho follaje de color verde oscuro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, pero el desarrollo de las raíces es reducid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   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La floración y la producción de frutos y semillas se retard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7B44-C761-4FBF-8B4C-34690C30631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OSF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plantas lo toman en forma de P</a:t>
            </a:r>
            <a:r>
              <a:rPr b="0" lang="es-ES" sz="2400" spc="-1" strike="noStrike" baseline="-25000">
                <a:solidFill>
                  <a:srgbClr val="ff6699"/>
                </a:solidFill>
                <a:latin typeface="Arial Black"/>
              </a:rPr>
              <a:t>2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</a:t>
            </a:r>
            <a:r>
              <a:rPr b="0" lang="es-ES" sz="2400" spc="-1" strike="noStrike" baseline="-25000">
                <a:solidFill>
                  <a:srgbClr val="ff6699"/>
                </a:solidFill>
                <a:latin typeface="Arial Black"/>
              </a:rPr>
              <a:t>5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timula la rápida formación  y crecimiento de raí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Facilita el rápido y vigoroso comienzo a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elera la maduración y estimula la coloración de los frut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 la formación de las sem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Da vigor a los cultivos para defenderse del rigor del inviern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A58-06DC-44F9-9B9F-06C4733816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125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OSF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parición  de hojas y tallos de </a:t>
            </a:r>
            <a:r>
              <a:rPr b="0" lang="es-ES" sz="2400" spc="-1" strike="noStrike">
                <a:solidFill>
                  <a:srgbClr val="cc00ff"/>
                </a:solidFill>
                <a:latin typeface="Arial Black"/>
              </a:rPr>
              <a:t>color purpúreo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 ; este síntoma se nota primero en las hojas más viej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Desarrollo  y madurez lentos y aspecto raquítico  en los tall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Mala germinación de las semillas 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Bajo rendimiento de frutos y semill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excesos de P no son notorios a primera vista, pero pueden ocasionar deficiencia de Cu y de Z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929B-9EA5-472C-8099-5408E0F7873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POTA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plantas lo toman  en forma de K</a:t>
            </a:r>
            <a:r>
              <a:rPr b="0" lang="es-ES" sz="2400" spc="-1" strike="noStrike" baseline="-25000">
                <a:solidFill>
                  <a:srgbClr val="ff6699"/>
                </a:solidFill>
                <a:latin typeface="Arial Black"/>
              </a:rPr>
              <a:t>2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torga a las plantas gran vigor  y resistencia contra las enfermedades y bajas temperatur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 la producción de proteína de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umenta el tamaño de las sem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Mejora la calidad de los frut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l desarrollo de los tubércul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Favorece la formación del color rojo en hojas y frut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C597-F285-47CE-ABF8-860591E5DCE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92504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POTA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399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- Las hojas de la parte más baja se queman en los bordes y puntas; generalmente la  vena central conserva el color verde; también tienden a enrollarse 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- Debido al pobre desarrollo  de las raíces , las plantas se degeneran  antes de llegar a la etapa de producció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- En las leguminosas  da lugar a semillas  arrugadas y desfiguradas que no germinan  o que originan  plántulas débi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281-0DB9-43C4-9B1F-B394B9F1544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POTA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14080" y="2001600"/>
            <a:ext cx="8629560" cy="3198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No es común la absorción de exceso de K, pero altos niveles de él  en las soluciones nutritivas  pueden ocasionar deficiencia  de magnesio  y también  de Mn, Zn  y Fe.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A7A7-AB14-4724-86EB-D886FBEEFC1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848360" cy="13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ALC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45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absorbido en forma de Ca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tiva la formación y crecimiento de las raíc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Mejora el vigor general de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eutraliza las sustancias tóxicas que producen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timula la producción de sem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umenta el contenido de Ca en el alimento humano y anim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79F7-F723-4F0E-8FF7-B1AA3EB1CEB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ELEMENTOS MAYORES : CALCIO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hojas jóvenes  de los brotes terminales se doblan, enrollan o arrugan   y se queman en sus puntas y bordes:  </a:t>
            </a:r>
            <a:r>
              <a:rPr b="0" lang="es-ES" sz="2400" spc="-1" strike="noStrike">
                <a:solidFill>
                  <a:srgbClr val="808080"/>
                </a:solidFill>
                <a:latin typeface="Arial Black"/>
              </a:rPr>
              <a:t>pico de lor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n las áreas terminales pueden aparecer brotes  nuevos de color blanquecin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Puede producirse la muerte de los extremos de las raí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n los tomates  y sandías la deficiencia de Ca  ocasiona el hundimiento  y posterior pudrición seca de los frutos en el extremo opuesto al pedúnculo: </a:t>
            </a:r>
            <a:r>
              <a:rPr b="0" lang="es-ES" sz="2400" spc="-1" strike="noStrike">
                <a:solidFill>
                  <a:srgbClr val="808080"/>
                </a:solidFill>
                <a:latin typeface="Arial Black"/>
              </a:rPr>
              <a:t>pudrición apic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5477-DB30-4F6F-A49A-0BF32332515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84872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ALC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848960"/>
            <a:ext cx="8458200" cy="331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No se conocen síntomas de toxicidad por excesos, pero éstos pueden alterar   la acidez del medio de desarrollo de la raíz  y esto si afecta la disponibilidad de otros  elementos para la plant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4B2-797D-47EB-9A12-66C4A5C7350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85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rial Black"/>
              </a:rPr>
              <a:t>MODELO COMPARATIVO DE LAS  CARACTERISTICAS DE 2 TIPOS DE SUSTRATOS</a:t>
            </a:r>
            <a:endParaRPr b="0" lang="en-US" sz="2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1066680"/>
            <a:ext cx="9144000" cy="52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1947960" y="2133720"/>
            <a:ext cx="2281320" cy="19429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9"/>
          <p:cNvSpPr/>
          <p:nvPr/>
        </p:nvSpPr>
        <p:spPr>
          <a:xfrm>
            <a:off x="5510160" y="2114640"/>
            <a:ext cx="2281320" cy="1942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Freeform 24"/>
          <p:cNvSpPr/>
          <p:nvPr/>
        </p:nvSpPr>
        <p:spPr>
          <a:xfrm>
            <a:off x="6343560" y="2114640"/>
            <a:ext cx="723960" cy="1428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reeform 27"/>
          <p:cNvSpPr/>
          <p:nvPr/>
        </p:nvSpPr>
        <p:spPr>
          <a:xfrm>
            <a:off x="6524640" y="3200400"/>
            <a:ext cx="312840" cy="809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28"/>
          <p:cNvSpPr/>
          <p:nvPr/>
        </p:nvSpPr>
        <p:spPr>
          <a:xfrm>
            <a:off x="2981160" y="4019400"/>
            <a:ext cx="24768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Freeform 25"/>
          <p:cNvSpPr/>
          <p:nvPr/>
        </p:nvSpPr>
        <p:spPr>
          <a:xfrm>
            <a:off x="3048120" y="2124000"/>
            <a:ext cx="419040" cy="2143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reeform 20"/>
          <p:cNvSpPr/>
          <p:nvPr/>
        </p:nvSpPr>
        <p:spPr>
          <a:xfrm>
            <a:off x="2971800" y="2090880"/>
            <a:ext cx="438120" cy="2395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6591240" y="4000680"/>
            <a:ext cx="24768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6210360" y="2104920"/>
            <a:ext cx="762120" cy="2448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3446640" y="1130400"/>
            <a:ext cx="18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100 ml H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7027920" y="1130400"/>
            <a:ext cx="18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100 ml H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2"/>
          <p:cNvSpPr/>
          <p:nvPr/>
        </p:nvSpPr>
        <p:spPr>
          <a:xfrm>
            <a:off x="357120" y="2571840"/>
            <a:ext cx="139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1932"/>
                </a:solidFill>
                <a:latin typeface="Verdana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1932"/>
                </a:solidFill>
                <a:latin typeface="Verdana"/>
              </a:rPr>
              <a:t>GR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7668360" y="2724120"/>
            <a:ext cx="139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1932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1932"/>
                </a:solidFill>
                <a:latin typeface="Verdana"/>
              </a:rPr>
              <a:t>AR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1348920" y="4718160"/>
            <a:ext cx="228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ff"/>
                </a:solidFill>
                <a:latin typeface="Verdana"/>
              </a:rPr>
              <a:t>&gt; Drenaje H</a:t>
            </a:r>
            <a:r>
              <a:rPr b="1" lang="es-ES_tradnl" sz="2400" spc="-1" strike="noStrike" baseline="-25000">
                <a:solidFill>
                  <a:srgbClr val="6666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6666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5655960" y="4794120"/>
            <a:ext cx="228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ff"/>
                </a:solidFill>
                <a:latin typeface="Verdana"/>
              </a:rPr>
              <a:t>&lt; Drenaje H</a:t>
            </a:r>
            <a:r>
              <a:rPr b="1" lang="es-ES_tradnl" sz="2400" spc="-1" strike="noStrike" baseline="-25000">
                <a:solidFill>
                  <a:srgbClr val="6666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6666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36"/>
          <p:cNvSpPr/>
          <p:nvPr/>
        </p:nvSpPr>
        <p:spPr>
          <a:xfrm>
            <a:off x="262800" y="515628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Verdana"/>
              </a:rPr>
              <a:t>&lt;Rentención de hum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37"/>
          <p:cNvSpPr/>
          <p:nvPr/>
        </p:nvSpPr>
        <p:spPr>
          <a:xfrm>
            <a:off x="4930560" y="523224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Verdana"/>
              </a:rPr>
              <a:t>&gt; Retención de hum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8"/>
          <p:cNvSpPr/>
          <p:nvPr/>
        </p:nvSpPr>
        <p:spPr>
          <a:xfrm>
            <a:off x="880560" y="578484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ff"/>
                </a:solidFill>
                <a:latin typeface="Verdana"/>
              </a:rPr>
              <a:t>Riegos + frec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5197320" y="57657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ff"/>
                </a:solidFill>
                <a:latin typeface="Verdana"/>
              </a:rPr>
              <a:t>Riegos + distanci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0"/>
          <p:cNvSpPr/>
          <p:nvPr/>
        </p:nvSpPr>
        <p:spPr>
          <a:xfrm>
            <a:off x="3299760" y="4159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80 ml/5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6900120" y="4159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50 ml/5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43"/>
          <p:cNvSpPr/>
          <p:nvPr/>
        </p:nvSpPr>
        <p:spPr>
          <a:xfrm flipH="1">
            <a:off x="3219480" y="1390680"/>
            <a:ext cx="32400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44"/>
          <p:cNvSpPr/>
          <p:nvPr/>
        </p:nvSpPr>
        <p:spPr>
          <a:xfrm flipH="1">
            <a:off x="6724440" y="1371600"/>
            <a:ext cx="32364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4407-31AE-4CA0-B53C-3EEB17B1AA0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AGNE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686800" cy="432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plantas lo absorben  como Mg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un componente esencial de la </a:t>
            </a:r>
            <a:r>
              <a:rPr b="0" lang="es-ES" sz="2400" spc="-1" strike="noStrike">
                <a:solidFill>
                  <a:srgbClr val="006600"/>
                </a:solidFill>
                <a:latin typeface="Arial Black"/>
              </a:rPr>
              <a:t>clorofil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necesario para la formación  de los azucar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 regular la asimilación de otros nutrient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túa como transportador del fósforo dentro de la plant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Promueve la formación  de grasas y aceit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9C70-A7BE-458E-8A05-48667B8C9F8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AGNE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Pérdida del color verde, que ocasiona  en las hojas de abajo y continúa hacia arriba, pero las venas conservan el color verde: </a:t>
            </a:r>
            <a:r>
              <a:rPr b="0" lang="es-ES" sz="2400" spc="-1" strike="noStrike">
                <a:solidFill>
                  <a:srgbClr val="ff9900"/>
                </a:solidFill>
                <a:latin typeface="Arial Black"/>
              </a:rPr>
              <a:t>V invertid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tallos se forman débiles , y las raíces se ramifican y alargan excesivamen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hojas se tuercen hacia arriba a lo largo de los bord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o existen síntomas  visibles para identificar la toxicidad por Mg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8E81-FD37-49D3-8C8F-817FC2C29AE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AZUFR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044800"/>
            <a:ext cx="807732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un ingrediente esencial  de las proteín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 mantener el color verde intens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tiva la formación de nódulos nitrificantes en algunas especies  leguminosas (frijoles, soya, arvejas, habas)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timula la producción  de sem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l crecimiento más vigoroso de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8A7B-8A58-4BB8-8D04-B70204A278C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7732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AZUFR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968480"/>
            <a:ext cx="8515440" cy="424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Cuando se presenta deficiencia, lo que no es muy frecuente, las hojas jóvenes toman color verde claro y sus venas un color más claro aún ; el espacio entre las nervaduras se sec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Los tallos son cortos, endebles, de color amarill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l desarrollo es lento y raquític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49B0-A759-45DE-BB6F-5538EDC7223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ELEMENTOS MENORES: COBR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l 70% se concentra en la clorofila  y su función más importante se aprecia en la asimilació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evero descenso en el desarrollo de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 hojas   más jóvenes toman color verde oscuro, se enrollaron y aparece un moteado que va muriend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casa formación de la lámina de la hoja, disminución  de su tamaño  y enrrollamiento hacia la parte interna, lo cual limita la fotosíntesi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lorosis férrica, enanismo y oscurecimiento anormal de la zona de raí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ECBF-EEB2-4318-B13B-B33A3B2A3ED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 B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363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Aumenta el rendimiento o mejora la calidad de las frutas, verduras y forrajes, está relacionado con la asimilación de Calcio y con la transferencia  del azúcar  dentro de las plant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s importante  para la buena calidad de las semillas de las especies de leguminos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9566-C3BA-46C9-A136-20DE243D8C0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92504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 B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32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nula el  crecimiento  de tejidos nuevos  y puede causar hinchazón  y decoloración     en los vértices  radiculares y muerte de  la zona apical  (terminal) de las raí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casiona tallos cortos en el apio, podredumbre  de color pardo en la cabeza  y a lo largo  del interior  del tallo de la coliflor, podredumbre en el corazón  del nabo, ennegrecimiento y desintegración  del centro de la remolacha de mes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0402-ADD0-4C3E-AD91-DC59378520B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84872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 B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677960"/>
            <a:ext cx="9144000" cy="457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Se produce un amarillamiento del vértice de las hojas seguido de la muerte progresiva , que va avanzando  desde la parte basal de éstas  hasta los márgenes  y vértice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No se deben exceder las cantidades de este elemento dentro de las soluciones nutritivas ni dentro de los sustratos, porque en dosis superiores a las recomendadas es muy tóxic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F7FB-76A9-40A2-A344-F1EB414CCB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ER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o forma parte de la clorofila, pero esta ligado con su biosíntesi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ausa un </a:t>
            </a:r>
            <a:r>
              <a:rPr b="0" lang="es-ES" sz="2400" spc="-1" strike="noStrike">
                <a:solidFill>
                  <a:srgbClr val="ff9900"/>
                </a:solidFill>
                <a:latin typeface="Arial Black"/>
              </a:rPr>
              <a:t>color pálido amarillento del follaje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, aunque haya cantidades apropiadas  de nitrógeno en la solución nutritiv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casiona una banda de color claro  en los bordes de las hojas  y la formación de raíces cortas y muy ramificad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 deficiencia de hierro se parece mucho a las del magnesio, pero la del hierro aparece en hojas  más jóven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B9A6-0535-468C-91F0-4A206998DF2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ER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234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No se han establecido síntomas visuales  de toxicidad de hierro  absorbido por la raíz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C33-DDD1-48E9-9F36-FC42F9E29B5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6240" y="-36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TIPOS DE SUSTRAT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168560"/>
            <a:ext cx="9144000" cy="4991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INORGANICOS     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RENA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GRAV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ORGANICOS    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CASCARA DE ARROZ              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                           ASERRI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MEZCLAS MAS USADA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rena gruesa 50% + arena fina 50%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rena  fina 50% + cáscara de arroz 50%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rena gruesa 40% +cáscara de arroz 60%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562200" y="1238400"/>
            <a:ext cx="438480" cy="990360"/>
          </a:xfrm>
          <a:custGeom>
            <a:avLst/>
            <a:gdLst>
              <a:gd name="textAreaLeft" fmla="*/ 280080 w 438480"/>
              <a:gd name="textAreaRight" fmla="*/ 438840 w 4384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067200" y="2343240"/>
            <a:ext cx="438120" cy="990360"/>
          </a:xfrm>
          <a:custGeom>
            <a:avLst/>
            <a:gdLst>
              <a:gd name="textAreaLeft" fmla="*/ 280080 w 438120"/>
              <a:gd name="textAreaRight" fmla="*/ 438480 w 4381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BCA2-0829-4A12-9E7F-1CDBB5E430F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ANGANES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elera la germinación y maduració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umenta el aprovechamiento del Ca, el Mg y el P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ataliza en la síntesis de la clorofila  y ejerce funciones en la fotosíntesi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n tomates y remolachas causa la aparición  de color verde pálido, amarillo y rojo entre las hoj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l síntoma de clorosis  se presenta igualmente  entre las venas  de las hojas viejas o jóvenes , dependiendo de la especie; estas hojas posteriormente  mueren y se seca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E3E8-615B-41EE-BEAD-928770B0E44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ZINC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044800"/>
            <a:ext cx="830592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s necesario para la formación  normal de la clorofila y para el crecimient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s un importante  activador  de las enzimas que tienen  que ver con la síntesis  de proteínas, por lo cual  las plantas deficientes  en zinc  son pobres en ell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8653-A928-4968-86E4-A01B10E735F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ZINC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u deficiencia en tomate  ocasiona un ennegrecimiento  basal de los peciolos  de las hojas, pero disminuye  su longitud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 lámina foliar  toma una coloración pálida  y  una consistencia gruesa apergaminada, con entorchamiento hacia afuera  y con ondulaciones en los bord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l tamaño de los entrenudos  y el de las hojas se reduce, especialmente en su anchur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excesos de zinc producen clorosis férrica en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18D-FF9E-49C3-8A96-95FCD6F28D7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OLIBD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esencial en la fijación del N que hacen las legumbr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síntomas se parecen a los del N, porque la clorosis (amarillamiento) avanza desde las hojas más viejas hacia las más jóvenes, las que se ahuecan  y se queman en los bord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o se forma la lámina de las hojas, por lo que sólo aparece la nervadura centra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fecta negativamente el desarrollo de las especies crucíferas (repollo, coliflor, brócoli) , la remolacha, tomates y legumbr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23FF-F130-44E9-A700-78CE4F48A7D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84872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OLIBD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458200" cy="3408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n tomate, los excesos se manifiestan con la aparición  de un color amarillo brillante  en la coliflor , con la aparición  de un color púrpura brillante  en sus primeros estados de desarroll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A098-5FE2-48A3-9975-6292D5C6529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L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e produce marchitamiento inicial de las hojas, que luego se vuelven cloróticas, originando un color bronceado; después se muere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l desarrollo de las raíces es pobre y se produce  un engrosamiento anormal cerca de sus extrem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excesos  producen  el quemado de los bordes y extremos de las hojas; su tamaño se reduce y hay, en general, poco desarroll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14E-0233-46B9-B81E-B16F2BCAA30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NUTRIC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06" name="Object 3"/>
          <p:cNvGraphicFramePr/>
          <p:nvPr/>
        </p:nvGraphicFramePr>
        <p:xfrm>
          <a:off x="457200" y="803160"/>
          <a:ext cx="8229600" cy="538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03160"/>
                    <a:ext cx="8229600" cy="5386680"/>
                  </a:xfrm>
                  <a:prstGeom prst="rect">
                    <a:avLst/>
                  </a:prstGeom>
                  <a:ln w="93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4C45-C0CC-467A-9610-442B1070107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NUTRICION 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RUTILL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31632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33FB-2385-4F22-B933-399F86DC2DC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NUTRICION 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RUTILL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41604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8649-4318-4ACD-8553-800F2360F0E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NUTRICION 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RUTILL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413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8372-DAF6-4C39-924A-362DB38236C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 Black"/>
              </a:rPr>
              <a:t>COMPARACION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380880"/>
            <a:ext cx="9144000" cy="58676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60520" y="457200"/>
            <a:ext cx="352728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Arial Black"/>
              </a:rPr>
              <a:t>CULTIVO TRA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958640" y="533520"/>
            <a:ext cx="981000" cy="398880"/>
          </a:xfrm>
          <a:prstGeom prst="rect">
            <a:avLst/>
          </a:prstGeom>
          <a:solidFill>
            <a:srgbClr val="ffcc66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Arial Black"/>
              </a:rPr>
              <a:t>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317400" y="1166760"/>
            <a:ext cx="1639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INORGA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729040" y="1143000"/>
            <a:ext cx="13878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ORGA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600200" y="2438280"/>
            <a:ext cx="266688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MINERA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DESCO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5486400" y="2438280"/>
            <a:ext cx="25146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MINERA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DESCO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778200" y="3581280"/>
            <a:ext cx="1406160" cy="642600"/>
          </a:xfrm>
          <a:prstGeom prst="rect">
            <a:avLst/>
          </a:prstGeom>
          <a:solidFill>
            <a:srgbClr val="01b0ff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SOLUC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DEL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68000" y="3733920"/>
            <a:ext cx="1956240" cy="91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CONTACTO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LAS RAICES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LAS PLA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4558680" y="4572000"/>
            <a:ext cx="369360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Arial Black"/>
              </a:rPr>
              <a:t>CULTIVO HIDROPO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3047400" y="5410080"/>
            <a:ext cx="1759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 Black"/>
              </a:rPr>
              <a:t>SOLUCION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 Black"/>
              </a:rPr>
              <a:t>NUTR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6915600" y="5334120"/>
            <a:ext cx="1732320" cy="642600"/>
          </a:xfrm>
          <a:prstGeom prst="rect">
            <a:avLst/>
          </a:prstGeom>
          <a:solidFill>
            <a:srgbClr val="ffcccc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 Black"/>
              </a:rPr>
              <a:t>SA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 Black"/>
              </a:rPr>
              <a:t>INORGA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92200" y="5105520"/>
            <a:ext cx="1555200" cy="916920"/>
          </a:xfrm>
          <a:prstGeom prst="rect">
            <a:avLst/>
          </a:prstGeom>
          <a:solidFill>
            <a:srgbClr val="00cc0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ABSORC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DE AGU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MI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774400" y="1828800"/>
            <a:ext cx="1017360" cy="368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HUM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905480" y="1523880"/>
            <a:ext cx="134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Arena,l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arcilla,gr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6981120" y="1498680"/>
            <a:ext cx="21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Descomposición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hongos y bac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5321160" y="3632040"/>
            <a:ext cx="203364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Disueltos en e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agua del su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5245200" y="5156280"/>
            <a:ext cx="142848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Disuel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en el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21"/>
          <p:cNvSpPr/>
          <p:nvPr/>
        </p:nvSpPr>
        <p:spPr>
          <a:xfrm flipH="1">
            <a:off x="4190760" y="838080"/>
            <a:ext cx="685800" cy="3049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6019920" y="838080"/>
            <a:ext cx="533160" cy="3049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3429000" y="1523880"/>
            <a:ext cx="0" cy="9144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6400800" y="1523880"/>
            <a:ext cx="0" cy="3049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3505320" y="3124080"/>
            <a:ext cx="0" cy="15264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24480" y="3124080"/>
            <a:ext cx="0" cy="15264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3505320" y="3276720"/>
            <a:ext cx="281916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30"/>
          <p:cNvSpPr/>
          <p:nvPr/>
        </p:nvSpPr>
        <p:spPr>
          <a:xfrm flipH="1">
            <a:off x="2590560" y="3809880"/>
            <a:ext cx="1066680" cy="3049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31"/>
          <p:cNvSpPr/>
          <p:nvPr/>
        </p:nvSpPr>
        <p:spPr>
          <a:xfrm flipH="1">
            <a:off x="4952880" y="571500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2"/>
          <p:cNvSpPr/>
          <p:nvPr/>
        </p:nvSpPr>
        <p:spPr>
          <a:xfrm flipH="1" flipV="1">
            <a:off x="2590560" y="4266720"/>
            <a:ext cx="990360" cy="1143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3"/>
          <p:cNvSpPr/>
          <p:nvPr/>
        </p:nvSpPr>
        <p:spPr>
          <a:xfrm>
            <a:off x="1143000" y="4648320"/>
            <a:ext cx="0" cy="4572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34"/>
          <p:cNvSpPr/>
          <p:nvPr/>
        </p:nvSpPr>
        <p:spPr>
          <a:xfrm>
            <a:off x="1600200" y="4648320"/>
            <a:ext cx="0" cy="4572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5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6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2369-3B18-475B-838D-E10E036D502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3200" spc="-1" strike="noStrike">
                <a:solidFill>
                  <a:srgbClr val="008000"/>
                </a:solidFill>
                <a:latin typeface="Arial Black"/>
              </a:rPr>
              <a:t>SOLUCION NUTRITIVA: UPCH - ROSSI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-360" y="1581120"/>
            <a:ext cx="4724280" cy="4191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Composición Solución Concentrada A :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b2b2b2"/>
                </a:solidFill>
                <a:latin typeface="Arial Black"/>
              </a:rPr>
              <a:t>(para 10 litros de agua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Superfosfato de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Calcio triple              52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Potasio  11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Amonio    4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Calcio      8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62080" y="1561680"/>
            <a:ext cx="4381560" cy="42102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Composición solución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Concentrada B :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b2b2b2"/>
                </a:solidFill>
                <a:latin typeface="Arial Black"/>
              </a:rPr>
              <a:t>(para 5 litros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Sulfato de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Magnesio               8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Fetrilom Combi        35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Acido Bórico              6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5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6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4501-AC32-4F18-82BA-79F51A8858F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3200" spc="-1" strike="noStrike">
                <a:solidFill>
                  <a:srgbClr val="008000"/>
                </a:solidFill>
                <a:latin typeface="Arial Black"/>
              </a:rPr>
              <a:t>SOLUCION NUTRITIVA: UNA </a:t>
            </a:r>
            <a:r>
              <a:rPr b="0" lang="es-ES_tradnl" sz="2800" spc="-1" strike="noStrike">
                <a:solidFill>
                  <a:srgbClr val="008000"/>
                </a:solidFill>
                <a:latin typeface="Arial Black"/>
              </a:rPr>
              <a:t>(1996)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6292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Composición Solución Concentrada A :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b2b2b2"/>
                </a:solidFill>
                <a:latin typeface="Arial Black"/>
              </a:rPr>
              <a:t>(para 10 litros de agua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Superfosfato de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Calcio triple            3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Potasio 107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Amonio   700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6480" y="1828440"/>
            <a:ext cx="4457520" cy="3962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Composición solución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Concentrada B :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b2b2b2"/>
                </a:solidFill>
                <a:latin typeface="Arial Black"/>
              </a:rPr>
              <a:t>(para 5 litros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Sulfato de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Magnesio               1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Fetrilom Combi        3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Acido Bórico              3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5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6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86EB-9397-48A6-9C8E-2A5E3D22142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3200" spc="-1" strike="noStrike">
                <a:solidFill>
                  <a:srgbClr val="008000"/>
                </a:solidFill>
                <a:latin typeface="Arial Black"/>
              </a:rPr>
              <a:t>SOLUCION NUTRITIVA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51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Verdana"/>
              </a:rPr>
              <a:t>MODO DE EMPLE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) Solución FULL o COMPLETA</a:t>
            </a:r>
            <a:r>
              <a:rPr b="1" lang="es-ES_tradnl" sz="2800" spc="-1" strike="noStrike">
                <a:solidFill>
                  <a:srgbClr val="0000ff"/>
                </a:solidFill>
                <a:latin typeface="Arial Black"/>
              </a:rPr>
              <a:t>:</a:t>
            </a:r>
            <a:r>
              <a:rPr b="0" lang="es-ES_tradnl" sz="20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9900ff"/>
                </a:solidFill>
                <a:latin typeface="Arial Black"/>
              </a:rPr>
              <a:t>Meses de invierno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or cada litro de agua     5 ml solución concentrada 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2 ml solución concentrada B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b) Solución MEDIO FULL o MEDIA CONCENTRACION: </a:t>
            </a:r>
            <a:r>
              <a:rPr b="0" lang="es-ES_tradnl" sz="2000" spc="-1" strike="noStrike">
                <a:solidFill>
                  <a:srgbClr val="ff6600"/>
                </a:solidFill>
                <a:latin typeface="Arial Black"/>
              </a:rPr>
              <a:t>Meses de verano</a:t>
            </a:r>
            <a:r>
              <a:rPr b="0" lang="es-ES_tradnl" sz="2000" spc="-1" strike="noStrike">
                <a:solidFill>
                  <a:srgbClr val="ff99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or cada litro de agua     2.5 ml solución concentrada 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 ml solución concentrada B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99"/>
                </a:solidFill>
                <a:latin typeface="Verdana"/>
              </a:rPr>
              <a:t>Ambas soluciones deben mezclarse siempre en presencia de agu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3695760" y="2228760"/>
            <a:ext cx="342720" cy="895320"/>
          </a:xfrm>
          <a:custGeom>
            <a:avLst/>
            <a:gdLst>
              <a:gd name="textAreaLeft" fmla="*/ 218880 w 342720"/>
              <a:gd name="textAreaRight" fmla="*/ 343080 w 34272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3676680" y="4572000"/>
            <a:ext cx="361800" cy="819000"/>
          </a:xfrm>
          <a:custGeom>
            <a:avLst/>
            <a:gdLst>
              <a:gd name="textAreaLeft" fmla="*/ 231120 w 361800"/>
              <a:gd name="textAreaRight" fmla="*/ 362160 w 361800"/>
              <a:gd name="textAreaTop" fmla="*/ 21240 h 819000"/>
              <a:gd name="textAreaBottom" fmla="*/ 79776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64A3-5C49-4D40-BDEC-CE815E4F644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DROPONIA</a:t>
            </a:r>
            <a:br>
              <a:rPr sz="4000"/>
            </a:br>
            <a:r>
              <a:rPr b="0" lang="es-ES_tradnl" sz="3200" spc="-1" strike="noStrike">
                <a:solidFill>
                  <a:srgbClr val="009900"/>
                </a:solidFill>
                <a:latin typeface="Arial Black"/>
              </a:rPr>
              <a:t>MANEJO INTEGRADO DE PLAGA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33cc33"/>
                </a:solidFill>
                <a:latin typeface="Impact"/>
              </a:rPr>
              <a:t>Plag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Agentes perturbadores que afectan la cantidad y la calidad de los productos hortícolas--&gt;</a:t>
            </a:r>
            <a:r>
              <a:rPr b="0" lang="es-ES_tradnl" sz="2500" spc="-1" strike="noStrike">
                <a:solidFill>
                  <a:srgbClr val="ccff99"/>
                </a:solidFill>
                <a:latin typeface="Impact"/>
              </a:rPr>
              <a:t>Fitófagos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ccff"/>
                </a:solidFill>
                <a:latin typeface="Impact"/>
              </a:rPr>
              <a:t>Detección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: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Se recomienda revisar diariamente la huerta (total o parcialmente)--&gt;5 minutos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cc00"/>
                </a:solidFill>
                <a:latin typeface="Impact"/>
              </a:rPr>
              <a:t>MANEJO INTEGRADO DE PLAGAS ( MIP )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: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Consiste en utilizar diversos métodos  de control para reducir la densidad de la población de una plaga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a) </a:t>
            </a:r>
            <a:r>
              <a:rPr b="0" lang="es-ES_tradnl" sz="2500" spc="-1" strike="noStrike">
                <a:solidFill>
                  <a:srgbClr val="33cc33"/>
                </a:solidFill>
                <a:latin typeface="Impact"/>
              </a:rPr>
              <a:t>Control biológico.                                                                                                          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b) </a:t>
            </a:r>
            <a:r>
              <a:rPr b="0" lang="es-ES_tradnl" sz="2500" spc="-1" strike="noStrike">
                <a:solidFill>
                  <a:srgbClr val="ff9933"/>
                </a:solidFill>
                <a:latin typeface="Impact"/>
              </a:rPr>
              <a:t>Control etológico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.                                                                                                           c) </a:t>
            </a:r>
            <a:r>
              <a:rPr b="0" lang="es-ES_tradnl" sz="2500" spc="-1" strike="noStrike">
                <a:solidFill>
                  <a:srgbClr val="ffcc99"/>
                </a:solidFill>
                <a:latin typeface="Impact"/>
              </a:rPr>
              <a:t>Control físico - mecánico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           d) </a:t>
            </a:r>
            <a:r>
              <a:rPr b="0" lang="es-ES_tradnl" sz="2500" spc="-1" strike="noStrike">
                <a:solidFill>
                  <a:srgbClr val="66ff99"/>
                </a:solidFill>
                <a:latin typeface="Impact"/>
              </a:rPr>
              <a:t>Control con plantas biocid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e) </a:t>
            </a:r>
            <a:r>
              <a:rPr b="0" lang="es-ES_tradnl" sz="2500" spc="-1" strike="noStrike">
                <a:solidFill>
                  <a:srgbClr val="ff3300"/>
                </a:solidFill>
                <a:latin typeface="Impact"/>
              </a:rPr>
              <a:t>Control químico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808080"/>
                </a:solidFill>
                <a:latin typeface="Impact"/>
              </a:rPr>
              <a:t>(evitar)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B38C-EDF4-4177-AAF2-5A8927C31C4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5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AFIDOS: PULGONES</a:t>
            </a: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685800" y="914400"/>
          <a:ext cx="807732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77320" cy="53308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CBDF-9FBC-450F-87FF-0B73E99F32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OSCA MINADORA Y SUS    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   EFECT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0" y="685800"/>
          <a:ext cx="495288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952880" cy="327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0" name="Object 4"/>
          <p:cNvGraphicFramePr/>
          <p:nvPr/>
        </p:nvGraphicFramePr>
        <p:xfrm>
          <a:off x="3657600" y="2703600"/>
          <a:ext cx="5486400" cy="36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703600"/>
                    <a:ext cx="5486400" cy="3620880"/>
                  </a:xfrm>
                  <a:prstGeom prst="rect">
                    <a:avLst/>
                  </a:prstGeom>
                  <a:ln w="9360">
                    <a:solidFill>
                      <a:srgbClr val="99ff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26AB-F555-4F7B-8EA0-0899649A543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5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OSCA BLANCA</a:t>
            </a: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762120" y="914400"/>
          <a:ext cx="807696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8076960" cy="53308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E5CD-C43B-4781-8CF5-4774D8971C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2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ff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3600" spc="-1" strike="noStrike">
                <a:solidFill>
                  <a:srgbClr val="00ff00"/>
                </a:solidFill>
                <a:latin typeface="Arial Black"/>
              </a:rPr>
              <a:t>MIP-CONTROL BIOLOGICO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1085400"/>
            <a:ext cx="9144000" cy="516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Uso de controladores biológicos contra los fitófagos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99ffcc"/>
                </a:solidFill>
                <a:latin typeface="Impact"/>
              </a:rPr>
              <a:t>Tipos de Control Biológico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(C.B.)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1) </a:t>
            </a:r>
            <a:r>
              <a:rPr b="0" lang="es-ES_tradnl" sz="2500" spc="-1" strike="noStrike">
                <a:solidFill>
                  <a:srgbClr val="99ff99"/>
                </a:solidFill>
                <a:latin typeface="Impact"/>
              </a:rPr>
              <a:t>Natural   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                   2) </a:t>
            </a:r>
            <a:r>
              <a:rPr b="0" lang="es-ES_tradnl" sz="2500" spc="-1" strike="noStrike">
                <a:solidFill>
                  <a:srgbClr val="ffff66"/>
                </a:solidFill>
                <a:latin typeface="Impact"/>
              </a:rPr>
              <a:t>Aplicado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(Hombre manipula los C.B.)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Lo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99ffcc"/>
                </a:solidFill>
                <a:latin typeface="Impact"/>
              </a:rPr>
              <a:t>controladores  biológico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son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:                                                                                                                       a) </a:t>
            </a:r>
            <a:r>
              <a:rPr b="0" lang="es-ES_tradnl" sz="2500" spc="-1" strike="noStrike">
                <a:solidFill>
                  <a:srgbClr val="ff9900"/>
                </a:solidFill>
                <a:latin typeface="Impact"/>
              </a:rPr>
              <a:t>Parasitoide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: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Insectos que viven a expensas del cuerpo de otro insecto. Atacan: huevos,larvas,ninfas, pupas o adultos 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2500" spc="-1" strike="noStrike">
                <a:solidFill>
                  <a:srgbClr val="ff9900"/>
                </a:solidFill>
                <a:latin typeface="Impact"/>
              </a:rPr>
              <a:t>Avispas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y</a:t>
            </a:r>
            <a:r>
              <a:rPr b="0" lang="es-ES_tradnl" sz="2500" spc="-1" strike="noStrike">
                <a:solidFill>
                  <a:srgbClr val="ff9900"/>
                </a:solidFill>
                <a:latin typeface="Impact"/>
              </a:rPr>
              <a:t> mosc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b) </a:t>
            </a:r>
            <a:r>
              <a:rPr b="0" lang="es-ES_tradnl" sz="2500" spc="-1" strike="noStrike">
                <a:solidFill>
                  <a:srgbClr val="ff99ff"/>
                </a:solidFill>
                <a:latin typeface="Impact"/>
              </a:rPr>
              <a:t>Predatores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Organismos  que se alimentan de la plaga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ff99ff"/>
                </a:solidFill>
                <a:latin typeface="Impact"/>
              </a:rPr>
              <a:t>Mariquit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c) </a:t>
            </a:r>
            <a:r>
              <a:rPr b="0" lang="es-ES_tradnl" sz="2500" spc="-1" strike="noStrike">
                <a:solidFill>
                  <a:srgbClr val="ff7c80"/>
                </a:solidFill>
                <a:latin typeface="Impact"/>
              </a:rPr>
              <a:t>Patógeno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: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Producen enfermedades en las plag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: </a:t>
            </a:r>
            <a:r>
              <a:rPr b="0" lang="es-ES_tradnl" sz="2500" spc="-1" strike="noStrike">
                <a:solidFill>
                  <a:srgbClr val="ff7c80"/>
                </a:solidFill>
                <a:latin typeface="Impact"/>
              </a:rPr>
              <a:t>Viru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,</a:t>
            </a:r>
            <a:r>
              <a:rPr b="0" lang="es-ES_tradnl" sz="2500" spc="-1" strike="noStrike">
                <a:solidFill>
                  <a:srgbClr val="ff7c80"/>
                </a:solidFill>
                <a:latin typeface="Impact"/>
              </a:rPr>
              <a:t> bacterias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y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ff7c80"/>
                </a:solidFill>
                <a:latin typeface="Impact"/>
              </a:rPr>
              <a:t>hongo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5438-EDAA-47E8-B182-1B3213D1735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 Black"/>
              </a:rPr>
              <a:t>CONTROL BIOLOGICO</a:t>
            </a:r>
            <a:br>
              <a:rPr sz="4400"/>
            </a:b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PARASITOID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64" name="Object 3"/>
          <p:cNvGraphicFramePr/>
          <p:nvPr/>
        </p:nvGraphicFramePr>
        <p:xfrm>
          <a:off x="1295280" y="1325520"/>
          <a:ext cx="739152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25520"/>
                    <a:ext cx="7391520" cy="487836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1575-87B8-4F5D-938D-B389E8F444F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 Black"/>
              </a:rPr>
              <a:t>CONTROL BIOLOGICO</a:t>
            </a:r>
            <a:br>
              <a:rPr sz="4400"/>
            </a:b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PREDATORES</a:t>
            </a: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69" name="Object 3"/>
          <p:cNvGraphicFramePr/>
          <p:nvPr/>
        </p:nvGraphicFramePr>
        <p:xfrm>
          <a:off x="1295280" y="1300320"/>
          <a:ext cx="7467840" cy="49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00320"/>
                    <a:ext cx="7467840" cy="49273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84BC-6416-4D6F-9DCD-DC3FCE661ED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OMPARAC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590400"/>
            <a:ext cx="91440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71360" y="3581280"/>
            <a:ext cx="3029040" cy="20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1581120" y="3390840"/>
            <a:ext cx="80028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758880" y="1631880"/>
            <a:ext cx="1168200" cy="217512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1146240" y="1320840"/>
            <a:ext cx="1079280" cy="24382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11"/>
          <p:cNvSpPr/>
          <p:nvPr/>
        </p:nvSpPr>
        <p:spPr>
          <a:xfrm>
            <a:off x="1717560" y="1352520"/>
            <a:ext cx="1095480" cy="217800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12"/>
          <p:cNvSpPr/>
          <p:nvPr/>
        </p:nvSpPr>
        <p:spPr>
          <a:xfrm>
            <a:off x="819000" y="1911240"/>
            <a:ext cx="1162080" cy="1594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2050920" y="1527120"/>
            <a:ext cx="1203480" cy="20001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15"/>
          <p:cNvSpPr/>
          <p:nvPr/>
        </p:nvSpPr>
        <p:spPr>
          <a:xfrm>
            <a:off x="2025720" y="1825560"/>
            <a:ext cx="1724040" cy="170172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2019240" y="2016000"/>
            <a:ext cx="1476360" cy="157824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reeform 18"/>
          <p:cNvSpPr/>
          <p:nvPr/>
        </p:nvSpPr>
        <p:spPr>
          <a:xfrm>
            <a:off x="2190600" y="3695760"/>
            <a:ext cx="704880" cy="16574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eeform 19"/>
          <p:cNvSpPr/>
          <p:nvPr/>
        </p:nvSpPr>
        <p:spPr>
          <a:xfrm>
            <a:off x="1924200" y="3695760"/>
            <a:ext cx="1047600" cy="175248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Freeform 20"/>
          <p:cNvSpPr/>
          <p:nvPr/>
        </p:nvSpPr>
        <p:spPr>
          <a:xfrm>
            <a:off x="1959120" y="3657600"/>
            <a:ext cx="422280" cy="17906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21"/>
          <p:cNvSpPr/>
          <p:nvPr/>
        </p:nvSpPr>
        <p:spPr>
          <a:xfrm>
            <a:off x="1276200" y="3733920"/>
            <a:ext cx="571680" cy="17334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22"/>
          <p:cNvSpPr/>
          <p:nvPr/>
        </p:nvSpPr>
        <p:spPr>
          <a:xfrm>
            <a:off x="647640" y="3695760"/>
            <a:ext cx="1162080" cy="17334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Freeform 23"/>
          <p:cNvSpPr/>
          <p:nvPr/>
        </p:nvSpPr>
        <p:spPr>
          <a:xfrm>
            <a:off x="466560" y="3657600"/>
            <a:ext cx="1266840" cy="18288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reeform 24"/>
          <p:cNvSpPr/>
          <p:nvPr/>
        </p:nvSpPr>
        <p:spPr>
          <a:xfrm>
            <a:off x="2438280" y="4734000"/>
            <a:ext cx="457200" cy="40968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Freeform 25"/>
          <p:cNvSpPr/>
          <p:nvPr/>
        </p:nvSpPr>
        <p:spPr>
          <a:xfrm>
            <a:off x="1790640" y="4610160"/>
            <a:ext cx="362160" cy="55224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reeform 26"/>
          <p:cNvSpPr/>
          <p:nvPr/>
        </p:nvSpPr>
        <p:spPr>
          <a:xfrm>
            <a:off x="1000080" y="4591080"/>
            <a:ext cx="276120" cy="87624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Freeform 27"/>
          <p:cNvSpPr/>
          <p:nvPr/>
        </p:nvSpPr>
        <p:spPr>
          <a:xfrm>
            <a:off x="324000" y="4857840"/>
            <a:ext cx="476280" cy="64764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reeform 29"/>
          <p:cNvSpPr/>
          <p:nvPr/>
        </p:nvSpPr>
        <p:spPr>
          <a:xfrm>
            <a:off x="1523880" y="4971960"/>
            <a:ext cx="114480" cy="47628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0"/>
          <p:cNvSpPr/>
          <p:nvPr/>
        </p:nvSpPr>
        <p:spPr>
          <a:xfrm>
            <a:off x="4591080" y="3524400"/>
            <a:ext cx="2762280" cy="167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31"/>
          <p:cNvSpPr/>
          <p:nvPr/>
        </p:nvSpPr>
        <p:spPr>
          <a:xfrm>
            <a:off x="2533680" y="4343400"/>
            <a:ext cx="514440" cy="81900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32"/>
          <p:cNvSpPr/>
          <p:nvPr/>
        </p:nvSpPr>
        <p:spPr>
          <a:xfrm>
            <a:off x="2171880" y="2206800"/>
            <a:ext cx="1647720" cy="13683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41"/>
          <p:cNvSpPr/>
          <p:nvPr/>
        </p:nvSpPr>
        <p:spPr>
          <a:xfrm>
            <a:off x="5562720" y="3390840"/>
            <a:ext cx="79992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34"/>
          <p:cNvSpPr/>
          <p:nvPr/>
        </p:nvSpPr>
        <p:spPr>
          <a:xfrm>
            <a:off x="4873680" y="1517760"/>
            <a:ext cx="1168200" cy="21747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35"/>
          <p:cNvSpPr/>
          <p:nvPr/>
        </p:nvSpPr>
        <p:spPr>
          <a:xfrm>
            <a:off x="5127480" y="1225440"/>
            <a:ext cx="1079640" cy="243864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reeform 43"/>
          <p:cNvSpPr/>
          <p:nvPr/>
        </p:nvSpPr>
        <p:spPr>
          <a:xfrm>
            <a:off x="6058080" y="3657600"/>
            <a:ext cx="1047600" cy="12002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44"/>
          <p:cNvSpPr/>
          <p:nvPr/>
        </p:nvSpPr>
        <p:spPr>
          <a:xfrm>
            <a:off x="6134040" y="3638520"/>
            <a:ext cx="495360" cy="11811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45"/>
          <p:cNvSpPr/>
          <p:nvPr/>
        </p:nvSpPr>
        <p:spPr>
          <a:xfrm>
            <a:off x="4772160" y="3638520"/>
            <a:ext cx="1095120" cy="14288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46"/>
          <p:cNvSpPr/>
          <p:nvPr/>
        </p:nvSpPr>
        <p:spPr>
          <a:xfrm>
            <a:off x="5143680" y="3733920"/>
            <a:ext cx="780840" cy="12380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Freeform 47"/>
          <p:cNvSpPr/>
          <p:nvPr/>
        </p:nvSpPr>
        <p:spPr>
          <a:xfrm>
            <a:off x="5486400" y="3733920"/>
            <a:ext cx="457200" cy="11430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Freeform 49"/>
          <p:cNvSpPr/>
          <p:nvPr/>
        </p:nvSpPr>
        <p:spPr>
          <a:xfrm>
            <a:off x="5883120" y="3638520"/>
            <a:ext cx="422280" cy="14670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50"/>
          <p:cNvSpPr/>
          <p:nvPr/>
        </p:nvSpPr>
        <p:spPr>
          <a:xfrm>
            <a:off x="4610160" y="3371760"/>
            <a:ext cx="19080" cy="179064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51"/>
          <p:cNvSpPr/>
          <p:nvPr/>
        </p:nvSpPr>
        <p:spPr>
          <a:xfrm>
            <a:off x="4629240" y="5181480"/>
            <a:ext cx="272412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52"/>
          <p:cNvSpPr/>
          <p:nvPr/>
        </p:nvSpPr>
        <p:spPr>
          <a:xfrm>
            <a:off x="7334280" y="3429000"/>
            <a:ext cx="0" cy="177156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53"/>
          <p:cNvSpPr/>
          <p:nvPr/>
        </p:nvSpPr>
        <p:spPr>
          <a:xfrm rot="5485200">
            <a:off x="7444440" y="4451760"/>
            <a:ext cx="238320" cy="852480"/>
          </a:xfrm>
          <a:prstGeom prst="can">
            <a:avLst>
              <a:gd name="adj" fmla="val 15430"/>
            </a:avLst>
          </a:prstGeom>
          <a:solidFill>
            <a:srgbClr val="96969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4"/>
          <p:cNvSpPr/>
          <p:nvPr/>
        </p:nvSpPr>
        <p:spPr>
          <a:xfrm>
            <a:off x="7524720" y="5505480"/>
            <a:ext cx="1100160" cy="762120"/>
          </a:xfrm>
          <a:prstGeom prst="pi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55"/>
          <p:cNvSpPr/>
          <p:nvPr/>
        </p:nvSpPr>
        <p:spPr>
          <a:xfrm>
            <a:off x="7772400" y="5867280"/>
            <a:ext cx="623880" cy="304920"/>
          </a:xfrm>
          <a:prstGeom prst="pi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Oval 56"/>
          <p:cNvSpPr/>
          <p:nvPr/>
        </p:nvSpPr>
        <p:spPr>
          <a:xfrm>
            <a:off x="7981920" y="5276880"/>
            <a:ext cx="133560" cy="209520"/>
          </a:xfrm>
          <a:prstGeom prst="ellips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57"/>
          <p:cNvSpPr/>
          <p:nvPr/>
        </p:nvSpPr>
        <p:spPr>
          <a:xfrm>
            <a:off x="7981920" y="5562720"/>
            <a:ext cx="133560" cy="209520"/>
          </a:xfrm>
          <a:prstGeom prst="ellips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59"/>
          <p:cNvSpPr/>
          <p:nvPr/>
        </p:nvSpPr>
        <p:spPr>
          <a:xfrm>
            <a:off x="372600" y="711360"/>
            <a:ext cx="332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6633"/>
                </a:solidFill>
                <a:latin typeface="Verdana"/>
              </a:rPr>
              <a:t>CULTIVO EN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60"/>
          <p:cNvSpPr/>
          <p:nvPr/>
        </p:nvSpPr>
        <p:spPr>
          <a:xfrm>
            <a:off x="4526640" y="692280"/>
            <a:ext cx="416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cc"/>
                </a:solidFill>
                <a:latin typeface="Verdana"/>
              </a:rPr>
              <a:t>CULTIVO HIDROPON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1"/>
          <p:cNvSpPr/>
          <p:nvPr/>
        </p:nvSpPr>
        <p:spPr>
          <a:xfrm>
            <a:off x="3081600" y="3032280"/>
            <a:ext cx="13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ie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cesiv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n 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62"/>
          <p:cNvSpPr/>
          <p:nvPr/>
        </p:nvSpPr>
        <p:spPr>
          <a:xfrm>
            <a:off x="2933640" y="4381560"/>
            <a:ext cx="238320" cy="1433520"/>
          </a:xfrm>
          <a:prstGeom prst="downArrow">
            <a:avLst>
              <a:gd name="adj1" fmla="val 50000"/>
              <a:gd name="adj2" fmla="val 150378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63"/>
          <p:cNvSpPr/>
          <p:nvPr/>
        </p:nvSpPr>
        <p:spPr>
          <a:xfrm>
            <a:off x="2852640" y="4556160"/>
            <a:ext cx="18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Lavad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nutri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RD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64"/>
          <p:cNvSpPr/>
          <p:nvPr/>
        </p:nvSpPr>
        <p:spPr>
          <a:xfrm>
            <a:off x="7607160" y="2384280"/>
            <a:ext cx="15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iego 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olu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nutr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65"/>
          <p:cNvSpPr/>
          <p:nvPr/>
        </p:nvSpPr>
        <p:spPr>
          <a:xfrm>
            <a:off x="4813200" y="5172120"/>
            <a:ext cx="27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Reutilización 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solución nutr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Symbol"/>
                <a:ea typeface="Symbol"/>
              </a:rPr>
              <a:t></a:t>
            </a:r>
            <a:r>
              <a:rPr b="1" lang="es-ES_tradnl" sz="2400" spc="-1" strike="noStrike">
                <a:solidFill>
                  <a:srgbClr val="009900"/>
                </a:solidFill>
                <a:latin typeface="Times New Roman"/>
              </a:rPr>
              <a:t>AHOR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Oval 66"/>
          <p:cNvSpPr/>
          <p:nvPr/>
        </p:nvSpPr>
        <p:spPr>
          <a:xfrm>
            <a:off x="7962840" y="4952880"/>
            <a:ext cx="133560" cy="209520"/>
          </a:xfrm>
          <a:prstGeom prst="ellips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Freeform 67"/>
          <p:cNvSpPr/>
          <p:nvPr/>
        </p:nvSpPr>
        <p:spPr>
          <a:xfrm>
            <a:off x="7162920" y="3600360"/>
            <a:ext cx="1635120" cy="20764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68"/>
          <p:cNvSpPr/>
          <p:nvPr/>
        </p:nvSpPr>
        <p:spPr>
          <a:xfrm rot="8232600">
            <a:off x="2572920" y="3489480"/>
            <a:ext cx="803160" cy="272880"/>
          </a:xfrm>
          <a:custGeom>
            <a:avLst/>
            <a:gdLst>
              <a:gd name="textAreaLeft" fmla="*/ 100440 w 803160"/>
              <a:gd name="textAreaRight" fmla="*/ 703080 w 803160"/>
              <a:gd name="textAreaTop" fmla="*/ 68040 h 272880"/>
              <a:gd name="textAreaBottom" fmla="*/ 204840 h 272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9"/>
          <p:cNvSpPr/>
          <p:nvPr/>
        </p:nvSpPr>
        <p:spPr>
          <a:xfrm rot="8232600">
            <a:off x="6878160" y="3317400"/>
            <a:ext cx="803520" cy="273240"/>
          </a:xfrm>
          <a:custGeom>
            <a:avLst/>
            <a:gdLst>
              <a:gd name="textAreaLeft" fmla="*/ 100440 w 803520"/>
              <a:gd name="textAreaRight" fmla="*/ 703080 w 803520"/>
              <a:gd name="textAreaTop" fmla="*/ 68400 h 273240"/>
              <a:gd name="textAreaBottom" fmla="*/ 205200 h 273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Freeform 36"/>
          <p:cNvSpPr/>
          <p:nvPr/>
        </p:nvSpPr>
        <p:spPr>
          <a:xfrm>
            <a:off x="5603760" y="1352520"/>
            <a:ext cx="1095480" cy="217800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Freeform 37"/>
          <p:cNvSpPr/>
          <p:nvPr/>
        </p:nvSpPr>
        <p:spPr>
          <a:xfrm>
            <a:off x="5994360" y="1393920"/>
            <a:ext cx="1203480" cy="20001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Freeform 33"/>
          <p:cNvSpPr/>
          <p:nvPr/>
        </p:nvSpPr>
        <p:spPr>
          <a:xfrm>
            <a:off x="4819680" y="1892160"/>
            <a:ext cx="1162080" cy="1594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reeform 38"/>
          <p:cNvSpPr/>
          <p:nvPr/>
        </p:nvSpPr>
        <p:spPr>
          <a:xfrm>
            <a:off x="5952960" y="1787400"/>
            <a:ext cx="1724040" cy="1702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Freeform 39"/>
          <p:cNvSpPr/>
          <p:nvPr/>
        </p:nvSpPr>
        <p:spPr>
          <a:xfrm>
            <a:off x="5962680" y="1978200"/>
            <a:ext cx="1476360" cy="15778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Freeform 40"/>
          <p:cNvSpPr/>
          <p:nvPr/>
        </p:nvSpPr>
        <p:spPr>
          <a:xfrm>
            <a:off x="5981760" y="2320920"/>
            <a:ext cx="1781280" cy="1216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0518-6A8B-411C-AF67-EC29DF7C843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 Black"/>
              </a:rPr>
              <a:t>CONTROL BIOLOGICO</a:t>
            </a:r>
            <a:br>
              <a:rPr sz="4400"/>
            </a:b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PREDATORES</a:t>
            </a: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74" name="Object 4"/>
          <p:cNvGraphicFramePr/>
          <p:nvPr/>
        </p:nvGraphicFramePr>
        <p:xfrm>
          <a:off x="2438280" y="1295280"/>
          <a:ext cx="5096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95280"/>
                    <a:ext cx="5096160" cy="4886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D514-C3FE-457A-B9A7-C9FF3C029EB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 Black"/>
              </a:rPr>
              <a:t>HIDROPONIA - MIP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80800"/>
            <a:ext cx="9144000" cy="507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Impact"/>
              </a:rPr>
              <a:t>Control etológico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                                                                                                 a)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Uso de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trampas amarilla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recubiertas con aceite de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carro.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             b)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Uso de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trampas de luz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colocadas encima de recipientes con agua  y aceite quemado durante la noche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9900"/>
                </a:solidFill>
                <a:latin typeface="Impact"/>
              </a:rPr>
              <a:t>Control físico-químico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Limpiando las hojas con pinceles  o algodón embebido con agu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9933"/>
                </a:solidFill>
                <a:latin typeface="Impact"/>
              </a:rPr>
              <a:t>Control  con plantas biocidas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Uso de extractos de planta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repelentes  o bioinsecticid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Impact"/>
              </a:rPr>
              <a:t>Control químico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Empleo de agroquímicos los cuales son tóxicos y  tienen un efecto residual.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6D61-62AE-4CD9-9A69-45F9E78A4CB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CONTROL ETOLOGICO</a:t>
            </a: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s-ES_tradnl" sz="4000" spc="-1" strike="noStrike">
                <a:solidFill>
                  <a:srgbClr val="ffff00"/>
                </a:solidFill>
                <a:latin typeface="Arial Black"/>
              </a:rPr>
              <a:t>TRAMPAS AMARILLA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83" name="Object 3"/>
          <p:cNvGraphicFramePr/>
          <p:nvPr/>
        </p:nvGraphicFramePr>
        <p:xfrm>
          <a:off x="1434960" y="1352520"/>
          <a:ext cx="71755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352520"/>
                    <a:ext cx="7175520" cy="495936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500D-D0D0-492C-9BD9-67021F4CC08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CONTROL ETOLOGICO</a:t>
            </a: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s-ES_tradnl" sz="4000" spc="-1" strike="noStrike">
                <a:solidFill>
                  <a:srgbClr val="ffff00"/>
                </a:solidFill>
                <a:latin typeface="Arial Black"/>
              </a:rPr>
              <a:t>TRAMPAS AMARILLA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1790640" y="1249200"/>
          <a:ext cx="6362640" cy="50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1249200"/>
                    <a:ext cx="6362640" cy="50533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40E4-4256-4AA3-9DEA-A2B4BA26534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s-ES_tradnl" sz="4400" spc="-1" strike="noStrike">
                <a:solidFill>
                  <a:srgbClr val="ffff00"/>
                </a:solidFill>
                <a:latin typeface="Arial Black"/>
              </a:rPr>
              <a:t>VENTAJAS DE LA HIDROPONIA - I</a:t>
            </a:r>
            <a:r>
              <a:rPr b="0" lang="es-ES_tradnl" sz="4800" spc="-1" strike="noStrike">
                <a:solidFill>
                  <a:srgbClr val="ccffff"/>
                </a:solidFill>
                <a:latin typeface="Impact"/>
              </a:rPr>
              <a:t>   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) </a:t>
            </a:r>
            <a:r>
              <a:rPr b="0" lang="es-ES_tradnl" sz="2800" spc="-1" strike="noStrike">
                <a:solidFill>
                  <a:srgbClr val="ff9900"/>
                </a:solidFill>
                <a:latin typeface="Impact"/>
              </a:rPr>
              <a:t>Alta productividad de cultiv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2) </a:t>
            </a:r>
            <a:r>
              <a:rPr b="0" lang="es-ES_tradnl" sz="2800" spc="-1" strike="noStrike">
                <a:solidFill>
                  <a:srgbClr val="19e71e"/>
                </a:solidFill>
                <a:latin typeface="Impact"/>
              </a:rPr>
              <a:t>Maduración temprana y gran desarrollo de las planta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3) </a:t>
            </a:r>
            <a:r>
              <a:rPr b="0" lang="es-ES_tradnl" sz="2800" spc="-1" strike="noStrike">
                <a:solidFill>
                  <a:srgbClr val="0cd8f4"/>
                </a:solidFill>
                <a:latin typeface="Impact"/>
              </a:rPr>
              <a:t>Menor consumo de agu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4) </a:t>
            </a:r>
            <a:r>
              <a:rPr b="0" lang="es-ES_tradnl" sz="2800" spc="-1" strike="noStrike">
                <a:solidFill>
                  <a:srgbClr val="ff99ff"/>
                </a:solidFill>
                <a:latin typeface="Impact"/>
              </a:rPr>
              <a:t>Menor requerimiento de espacio para los cultiv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5) </a:t>
            </a:r>
            <a:r>
              <a:rPr b="0" lang="es-ES_tradnl" sz="2800" spc="-1" strike="noStrike">
                <a:solidFill>
                  <a:srgbClr val="009900"/>
                </a:solidFill>
                <a:latin typeface="Impact"/>
              </a:rPr>
              <a:t>Permite el empleo de un control biológic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6) </a:t>
            </a:r>
            <a:r>
              <a:rPr b="0" lang="es-ES_tradnl" sz="2800" spc="-1" strike="noStrike">
                <a:solidFill>
                  <a:srgbClr val="cc00ff"/>
                </a:solidFill>
                <a:latin typeface="Impact"/>
              </a:rPr>
              <a:t>Alta calidad de productos y mayor duració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7) </a:t>
            </a:r>
            <a:r>
              <a:rPr b="0" lang="es-ES_tradnl" sz="2800" spc="-1" strike="noStrike">
                <a:solidFill>
                  <a:srgbClr val="ff6600"/>
                </a:solidFill>
                <a:latin typeface="Impact"/>
              </a:rPr>
              <a:t>No hay crecimiento de malezas, al no usar el suel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8) </a:t>
            </a:r>
            <a:r>
              <a:rPr b="0" lang="es-ES_tradnl" sz="2800" spc="-1" strike="noStrike">
                <a:solidFill>
                  <a:srgbClr val="0099ff"/>
                </a:solidFill>
                <a:latin typeface="Impact"/>
              </a:rPr>
              <a:t>Se conserva mejor el medio de  cultiv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9) </a:t>
            </a:r>
            <a:r>
              <a:rPr b="0" lang="es-ES_tradnl" sz="2800" spc="-1" strike="noStrike">
                <a:solidFill>
                  <a:srgbClr val="c0c0c0"/>
                </a:solidFill>
                <a:latin typeface="Impact"/>
              </a:rPr>
              <a:t>Mejor control de los ambientes  y factores de cultiv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51DD-BAA1-47EF-B0C1-C39C26FDEA5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 Black"/>
              </a:rPr>
              <a:t>VENTAJAS DE LA HIDROPONIA - II</a:t>
            </a: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0) </a:t>
            </a:r>
            <a:r>
              <a:rPr b="0" lang="es-ES_tradnl" sz="2600" spc="-1" strike="noStrike">
                <a:solidFill>
                  <a:srgbClr val="00ff00"/>
                </a:solidFill>
                <a:latin typeface="Impact"/>
              </a:rPr>
              <a:t>No es necesario la rotación de los cultivos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1) </a:t>
            </a:r>
            <a:r>
              <a:rPr b="0" lang="es-ES_tradnl" sz="2600" spc="-1" strike="noStrike">
                <a:solidFill>
                  <a:srgbClr val="ffcc66"/>
                </a:solidFill>
                <a:latin typeface="Impact"/>
              </a:rPr>
              <a:t>Los productos son suceptibles  de ser adaptados a la mecanización  y automatización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2) </a:t>
            </a:r>
            <a:r>
              <a:rPr b="0" lang="es-ES_tradnl" sz="2600" spc="-1" strike="noStrike">
                <a:solidFill>
                  <a:srgbClr val="3399ff"/>
                </a:solidFill>
                <a:latin typeface="Impact"/>
              </a:rPr>
              <a:t>Los nutrientes pueden ser reutilizados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3) </a:t>
            </a:r>
            <a:r>
              <a:rPr b="0" lang="es-ES_tradnl" sz="2600" spc="-1" strike="noStrike">
                <a:solidFill>
                  <a:srgbClr val="c0c0c0"/>
                </a:solidFill>
                <a:latin typeface="Impact"/>
              </a:rPr>
              <a:t>Mayor limpieza e higiene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4) </a:t>
            </a:r>
            <a:r>
              <a:rPr b="0" lang="es-ES_tradnl" sz="2600" spc="-1" strike="noStrike">
                <a:solidFill>
                  <a:srgbClr val="ff9900"/>
                </a:solidFill>
                <a:latin typeface="Impact"/>
              </a:rPr>
              <a:t>Mayor precosidad de los cultivos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5) </a:t>
            </a:r>
            <a:r>
              <a:rPr b="0" lang="es-ES_tradnl" sz="2600" spc="-1" strike="noStrike">
                <a:solidFill>
                  <a:srgbClr val="ff7c80"/>
                </a:solidFill>
                <a:latin typeface="Impact"/>
              </a:rPr>
              <a:t>Casi no hay gasto de maquinaria agrícola,  no se requiere  de tractor , arado u otros implementos semejantes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6) </a:t>
            </a:r>
            <a:r>
              <a:rPr b="0" lang="es-ES_tradnl" sz="2600" spc="-1" strike="noStrike">
                <a:solidFill>
                  <a:srgbClr val="00ffff"/>
                </a:solidFill>
                <a:latin typeface="Impact"/>
              </a:rPr>
              <a:t>La recuperación de lo invertido es rápida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7) </a:t>
            </a:r>
            <a:r>
              <a:rPr b="0" lang="es-ES_tradnl" sz="2600" spc="-1" strike="noStrike">
                <a:solidFill>
                  <a:srgbClr val="ff99ff"/>
                </a:solidFill>
                <a:latin typeface="Impact"/>
              </a:rPr>
              <a:t>Perfecto control del pH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50B3-6E30-4153-98CD-D8152B125F8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Arial Black"/>
              </a:rPr>
              <a:t>DESVENTAJAS DE LA</a:t>
            </a:r>
            <a:br>
              <a:rPr sz="4000"/>
            </a:br>
            <a:r>
              <a:rPr b="0" lang="es-ES_tradnl" sz="40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1085400"/>
            <a:ext cx="914400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) </a:t>
            </a:r>
            <a:r>
              <a:rPr b="0" lang="es-ES_tradnl" sz="2400" spc="-1" strike="noStrike">
                <a:solidFill>
                  <a:srgbClr val="ff9900"/>
                </a:solidFill>
                <a:latin typeface="Impact"/>
              </a:rPr>
              <a:t>El costo de instalación puede ser alto, sobretodo a nivel comercial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2) </a:t>
            </a:r>
            <a:r>
              <a:rPr b="0" lang="es-ES_tradnl" sz="2400" spc="-1" strike="noStrike">
                <a:solidFill>
                  <a:srgbClr val="009900"/>
                </a:solidFill>
                <a:latin typeface="Impact"/>
              </a:rPr>
              <a:t>Necesidad de conocimientos básicos  especialmente en los cultivos comerciales,  requeriendose conocimiento  técnico combinado  con la comprensión  de los principios  de  fisiología vegetal y de química orgánic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3) </a:t>
            </a:r>
            <a:r>
              <a:rPr b="0" lang="es-ES_tradnl" sz="2400" spc="-1" strike="noStrike">
                <a:solidFill>
                  <a:srgbClr val="cc6600"/>
                </a:solidFill>
                <a:latin typeface="Impact"/>
              </a:rPr>
              <a:t>Ausencia de vida benéfica del suel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4) </a:t>
            </a:r>
            <a:r>
              <a:rPr b="0" lang="es-ES_tradnl" sz="2400" spc="-1" strike="noStrike">
                <a:solidFill>
                  <a:srgbClr val="ff3399"/>
                </a:solidFill>
                <a:latin typeface="Impact"/>
              </a:rPr>
              <a:t>Rápida propagación  de enfermedades  a través de la solución nutritiva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5) </a:t>
            </a:r>
            <a:r>
              <a:rPr b="0" lang="es-ES_tradnl" sz="2400" spc="-1" strike="noStrike">
                <a:solidFill>
                  <a:srgbClr val="b2b2b2"/>
                </a:solidFill>
                <a:latin typeface="Impact"/>
              </a:rPr>
              <a:t>No todas las variedades de plantas  son apropiadas para un cultivo hidropónico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6) </a:t>
            </a:r>
            <a:r>
              <a:rPr b="0" lang="es-ES_tradnl" sz="2400" spc="-1" strike="noStrike">
                <a:solidFill>
                  <a:srgbClr val="99ff33"/>
                </a:solidFill>
                <a:latin typeface="Impact"/>
              </a:rPr>
              <a:t>Las plantas reaccionan  rápidamente a buenas y malas condiciones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7) </a:t>
            </a:r>
            <a:r>
              <a:rPr b="0" lang="es-ES_tradnl" sz="2400" spc="-1" strike="noStrike">
                <a:solidFill>
                  <a:srgbClr val="ff66ff"/>
                </a:solidFill>
                <a:latin typeface="Impact"/>
              </a:rPr>
              <a:t>Requiere de un abastecimiento continuo de agua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4837-4F20-4482-9CF6-212064B4C59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OMPARAC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571680"/>
            <a:ext cx="91440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71360" y="3581280"/>
            <a:ext cx="3029040" cy="16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1581120" y="3390840"/>
            <a:ext cx="80028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758880" y="1631880"/>
            <a:ext cx="1168200" cy="217512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1146240" y="1320840"/>
            <a:ext cx="1079280" cy="24382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1717560" y="1352520"/>
            <a:ext cx="1095480" cy="217800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819000" y="1911240"/>
            <a:ext cx="1162080" cy="1594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2050920" y="1527120"/>
            <a:ext cx="1203480" cy="20001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2025720" y="1825560"/>
            <a:ext cx="1724040" cy="170172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2019240" y="2016000"/>
            <a:ext cx="1476360" cy="157824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reeform 13"/>
          <p:cNvSpPr/>
          <p:nvPr/>
        </p:nvSpPr>
        <p:spPr>
          <a:xfrm>
            <a:off x="2190600" y="3695760"/>
            <a:ext cx="704880" cy="14097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Freeform 14"/>
          <p:cNvSpPr/>
          <p:nvPr/>
        </p:nvSpPr>
        <p:spPr>
          <a:xfrm>
            <a:off x="1924200" y="3695760"/>
            <a:ext cx="1047600" cy="14288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15"/>
          <p:cNvSpPr/>
          <p:nvPr/>
        </p:nvSpPr>
        <p:spPr>
          <a:xfrm>
            <a:off x="1959120" y="3657600"/>
            <a:ext cx="422280" cy="13716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16"/>
          <p:cNvSpPr/>
          <p:nvPr/>
        </p:nvSpPr>
        <p:spPr>
          <a:xfrm>
            <a:off x="1409760" y="3733920"/>
            <a:ext cx="438120" cy="14097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17"/>
          <p:cNvSpPr/>
          <p:nvPr/>
        </p:nvSpPr>
        <p:spPr>
          <a:xfrm>
            <a:off x="762120" y="3695760"/>
            <a:ext cx="1047600" cy="148572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18"/>
          <p:cNvSpPr/>
          <p:nvPr/>
        </p:nvSpPr>
        <p:spPr>
          <a:xfrm>
            <a:off x="485640" y="3657600"/>
            <a:ext cx="1247760" cy="15048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19"/>
          <p:cNvSpPr/>
          <p:nvPr/>
        </p:nvSpPr>
        <p:spPr>
          <a:xfrm>
            <a:off x="2438280" y="4734000"/>
            <a:ext cx="457200" cy="40968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0"/>
          <p:cNvSpPr/>
          <p:nvPr/>
        </p:nvSpPr>
        <p:spPr>
          <a:xfrm>
            <a:off x="1695600" y="4572000"/>
            <a:ext cx="361800" cy="55260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1133640" y="4591080"/>
            <a:ext cx="142560" cy="53352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399960" y="4591080"/>
            <a:ext cx="476280" cy="41904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1600200" y="4705200"/>
            <a:ext cx="114480" cy="47628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4971960" y="3524400"/>
            <a:ext cx="2762280" cy="156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25"/>
          <p:cNvSpPr/>
          <p:nvPr/>
        </p:nvSpPr>
        <p:spPr>
          <a:xfrm>
            <a:off x="2533680" y="4343400"/>
            <a:ext cx="514440" cy="81900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Freeform 26"/>
          <p:cNvSpPr/>
          <p:nvPr/>
        </p:nvSpPr>
        <p:spPr>
          <a:xfrm>
            <a:off x="2171880" y="2206800"/>
            <a:ext cx="1647720" cy="13683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7"/>
          <p:cNvSpPr/>
          <p:nvPr/>
        </p:nvSpPr>
        <p:spPr>
          <a:xfrm>
            <a:off x="6134040" y="3390840"/>
            <a:ext cx="80028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5311800" y="1517760"/>
            <a:ext cx="1168200" cy="21747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reeform 29"/>
          <p:cNvSpPr/>
          <p:nvPr/>
        </p:nvSpPr>
        <p:spPr>
          <a:xfrm>
            <a:off x="5565600" y="1225440"/>
            <a:ext cx="1079640" cy="243864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0"/>
          <p:cNvSpPr/>
          <p:nvPr/>
        </p:nvSpPr>
        <p:spPr>
          <a:xfrm>
            <a:off x="6438960" y="3657600"/>
            <a:ext cx="1047600" cy="12002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1"/>
          <p:cNvSpPr/>
          <p:nvPr/>
        </p:nvSpPr>
        <p:spPr>
          <a:xfrm>
            <a:off x="6496200" y="3638520"/>
            <a:ext cx="495000" cy="11811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5172120" y="3638520"/>
            <a:ext cx="1076400" cy="129528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reeform 33"/>
          <p:cNvSpPr/>
          <p:nvPr/>
        </p:nvSpPr>
        <p:spPr>
          <a:xfrm>
            <a:off x="5505480" y="3676680"/>
            <a:ext cx="857160" cy="129528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Freeform 34"/>
          <p:cNvSpPr/>
          <p:nvPr/>
        </p:nvSpPr>
        <p:spPr>
          <a:xfrm>
            <a:off x="5829480" y="3695760"/>
            <a:ext cx="457200" cy="11811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reeform 35"/>
          <p:cNvSpPr/>
          <p:nvPr/>
        </p:nvSpPr>
        <p:spPr>
          <a:xfrm>
            <a:off x="6245280" y="3638520"/>
            <a:ext cx="422280" cy="13143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4"/>
          <p:cNvSpPr/>
          <p:nvPr/>
        </p:nvSpPr>
        <p:spPr>
          <a:xfrm>
            <a:off x="372600" y="711360"/>
            <a:ext cx="332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6633"/>
                </a:solidFill>
                <a:latin typeface="Verdana"/>
              </a:rPr>
              <a:t>CULTIVO EN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4526640" y="692280"/>
            <a:ext cx="416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cc"/>
                </a:solidFill>
                <a:latin typeface="Verdana"/>
              </a:rPr>
              <a:t>CULTIVO HIDROPON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55"/>
          <p:cNvSpPr/>
          <p:nvPr/>
        </p:nvSpPr>
        <p:spPr>
          <a:xfrm>
            <a:off x="6080040" y="1352520"/>
            <a:ext cx="1095480" cy="217800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56"/>
          <p:cNvSpPr/>
          <p:nvPr/>
        </p:nvSpPr>
        <p:spPr>
          <a:xfrm>
            <a:off x="6451560" y="1393920"/>
            <a:ext cx="1203480" cy="20001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7"/>
          <p:cNvSpPr/>
          <p:nvPr/>
        </p:nvSpPr>
        <p:spPr>
          <a:xfrm>
            <a:off x="5276880" y="1892160"/>
            <a:ext cx="1162080" cy="1594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58"/>
          <p:cNvSpPr/>
          <p:nvPr/>
        </p:nvSpPr>
        <p:spPr>
          <a:xfrm>
            <a:off x="6410160" y="1787400"/>
            <a:ext cx="1724040" cy="1702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59"/>
          <p:cNvSpPr/>
          <p:nvPr/>
        </p:nvSpPr>
        <p:spPr>
          <a:xfrm>
            <a:off x="6419880" y="1978200"/>
            <a:ext cx="1476360" cy="15778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60"/>
          <p:cNvSpPr/>
          <p:nvPr/>
        </p:nvSpPr>
        <p:spPr>
          <a:xfrm>
            <a:off x="6438960" y="2320920"/>
            <a:ext cx="1781280" cy="1216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1"/>
          <p:cNvSpPr/>
          <p:nvPr/>
        </p:nvSpPr>
        <p:spPr>
          <a:xfrm>
            <a:off x="568440" y="1301760"/>
            <a:ext cx="72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CO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62"/>
          <p:cNvSpPr/>
          <p:nvPr/>
        </p:nvSpPr>
        <p:spPr>
          <a:xfrm>
            <a:off x="4856040" y="1187280"/>
            <a:ext cx="72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CO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63"/>
          <p:cNvSpPr/>
          <p:nvPr/>
        </p:nvSpPr>
        <p:spPr>
          <a:xfrm>
            <a:off x="3943440" y="1866960"/>
            <a:ext cx="1052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PA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AE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64"/>
          <p:cNvSpPr/>
          <p:nvPr/>
        </p:nvSpPr>
        <p:spPr>
          <a:xfrm>
            <a:off x="348480" y="3619440"/>
            <a:ext cx="75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65"/>
          <p:cNvSpPr/>
          <p:nvPr/>
        </p:nvSpPr>
        <p:spPr>
          <a:xfrm>
            <a:off x="4708440" y="3429000"/>
            <a:ext cx="3747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7"/>
          <p:cNvSpPr/>
          <p:nvPr/>
        </p:nvSpPr>
        <p:spPr>
          <a:xfrm>
            <a:off x="7823160" y="3371760"/>
            <a:ext cx="243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70"/>
          <p:cNvSpPr/>
          <p:nvPr/>
        </p:nvSpPr>
        <p:spPr>
          <a:xfrm>
            <a:off x="0" y="5051520"/>
            <a:ext cx="4073400" cy="87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O + nutrientes mi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71"/>
          <p:cNvSpPr/>
          <p:nvPr/>
        </p:nvSpPr>
        <p:spPr>
          <a:xfrm>
            <a:off x="5014800" y="4917960"/>
            <a:ext cx="3807000" cy="87588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O + nutrientes mi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(solución nutriti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72"/>
          <p:cNvSpPr/>
          <p:nvPr/>
        </p:nvSpPr>
        <p:spPr>
          <a:xfrm>
            <a:off x="0" y="5670720"/>
            <a:ext cx="47116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Los iones presentes en el sue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pueden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 estar disponibles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la pl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73"/>
          <p:cNvSpPr/>
          <p:nvPr/>
        </p:nvSpPr>
        <p:spPr>
          <a:xfrm>
            <a:off x="5583240" y="5670720"/>
            <a:ext cx="356076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TODOS  </a:t>
            </a: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los iones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elementos  están disponibles para la pla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74"/>
          <p:cNvSpPr/>
          <p:nvPr/>
        </p:nvSpPr>
        <p:spPr>
          <a:xfrm>
            <a:off x="1200240" y="1676520"/>
            <a:ext cx="457200" cy="514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76"/>
          <p:cNvSpPr/>
          <p:nvPr/>
        </p:nvSpPr>
        <p:spPr>
          <a:xfrm>
            <a:off x="5505480" y="1562040"/>
            <a:ext cx="533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77"/>
          <p:cNvSpPr/>
          <p:nvPr/>
        </p:nvSpPr>
        <p:spPr>
          <a:xfrm flipV="1">
            <a:off x="781200" y="4514400"/>
            <a:ext cx="95040" cy="590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78"/>
          <p:cNvSpPr/>
          <p:nvPr/>
        </p:nvSpPr>
        <p:spPr>
          <a:xfrm flipV="1">
            <a:off x="5524560" y="4228920"/>
            <a:ext cx="76320" cy="742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F80F-09D1-4C55-90F5-D875EE2F2C2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0" y="1523880"/>
            <a:ext cx="9144000" cy="4572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000" spc="-1" strike="noStrike">
                <a:solidFill>
                  <a:srgbClr val="009900"/>
                </a:solidFill>
                <a:latin typeface="Arial Black"/>
              </a:rPr>
              <a:t>NUTRICION MINERAL DE LAS PLANTA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02480" y="3276720"/>
            <a:ext cx="1712520" cy="6426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PESO FRESC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DE LA PLA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464120" y="4572000"/>
            <a:ext cx="3009240" cy="68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En el proceso se perdió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promedio un 85</a:t>
            </a:r>
            <a:r>
              <a:rPr b="1" lang="es-ES_tradnl" sz="1800" spc="-1" strike="noStrike">
                <a:solidFill>
                  <a:srgbClr val="ff0000"/>
                </a:solidFill>
                <a:latin typeface="Arial Black"/>
              </a:rPr>
              <a:t>%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 de H</a:t>
            </a:r>
            <a:r>
              <a:rPr b="0" lang="es-ES_tradnl" sz="18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825360" y="3276720"/>
            <a:ext cx="171252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 Black"/>
              </a:rPr>
              <a:t>PESO SEC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 Black"/>
              </a:rPr>
              <a:t>DE LA PLA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061000" y="2590920"/>
            <a:ext cx="1789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Estufa 70-80 </a:t>
            </a:r>
            <a:r>
              <a:rPr b="0" lang="es-ES_tradnl" sz="1800" spc="-1" strike="noStrike" baseline="30000">
                <a:solidFill>
                  <a:srgbClr val="ff0000"/>
                </a:solidFill>
                <a:latin typeface="Arial Black"/>
              </a:rPr>
              <a:t>o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24 - 48 ho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200400"/>
            <a:ext cx="2819520" cy="10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90</a:t>
            </a:r>
            <a:r>
              <a:rPr b="1" lang="es-ES_tradnl" sz="1800" spc="-1" strike="noStrike">
                <a:solidFill>
                  <a:srgbClr val="cc6600"/>
                </a:solidFill>
                <a:latin typeface="Arial Black"/>
              </a:rPr>
              <a:t>%</a:t>
            </a: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 : C,H,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10</a:t>
            </a:r>
            <a:r>
              <a:rPr b="1" lang="es-ES_tradnl" sz="1800" spc="-1" strike="noStrike">
                <a:solidFill>
                  <a:srgbClr val="cc6600"/>
                </a:solidFill>
                <a:latin typeface="Arial Black"/>
              </a:rPr>
              <a:t>%</a:t>
            </a: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 : </a:t>
            </a:r>
            <a:r>
              <a:rPr b="0" lang="es-ES_tradnl" sz="1800" spc="-1" strike="noStrike">
                <a:solidFill>
                  <a:srgbClr val="0000ff"/>
                </a:solidFill>
                <a:latin typeface="Arial Black"/>
              </a:rPr>
              <a:t>13 Element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s-ES_tradnl" sz="1800" spc="-1" strike="noStrike">
                <a:solidFill>
                  <a:srgbClr val="0000ff"/>
                </a:solidFill>
                <a:latin typeface="Arial Black"/>
              </a:rPr>
              <a:t>esenci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885600" y="3962520"/>
            <a:ext cx="697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 Black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4061160" y="3962520"/>
            <a:ext cx="8740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1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2362320" y="35812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5791320" y="3048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89C3-DA65-466D-9B87-6D33D8B0276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DROPONIA 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Las plantas requieren para su normal crecimiento de </a:t>
            </a:r>
            <a:r>
              <a:rPr b="0" lang="es-ES" sz="2800" spc="-1" strike="noStrike">
                <a:solidFill>
                  <a:srgbClr val="ff0000"/>
                </a:solidFill>
                <a:latin typeface="Arial Black"/>
              </a:rPr>
              <a:t>un mínimo de 16 elementos  químicos</a:t>
            </a: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, de los cuales 3 los extraen del aire y del agua ( C, H y O, bajo la forma de CO</a:t>
            </a:r>
            <a:r>
              <a:rPr b="0" lang="es-ES" sz="2800" spc="-1" strike="noStrike" baseline="-25000">
                <a:solidFill>
                  <a:srgbClr val="0000ff"/>
                </a:solidFill>
                <a:latin typeface="Arial Black"/>
              </a:rPr>
              <a:t>2 </a:t>
            </a: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y H</a:t>
            </a:r>
            <a:r>
              <a:rPr b="0" lang="es-ES" sz="2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O)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Los otros 13 elementos las plantas los consumen en </a:t>
            </a: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s grados e intensidade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21:13:48Z</dcterms:created>
  <dc:creator>FACULTAD DE CIENCIAS</dc:creator>
  <dc:description/>
  <dc:language>en-US</dc:language>
  <cp:lastModifiedBy>cingacio bajo</cp:lastModifiedBy>
  <cp:lastPrinted>1999-11-16T22:06:52Z</cp:lastPrinted>
  <dcterms:modified xsi:type="dcterms:W3CDTF">2013-03-18T19:31:11Z</dcterms:modified>
  <cp:revision>61</cp:revision>
  <dc:subject/>
  <dc:title>HIDROPONIA</dc:title>
</cp:coreProperties>
</file>